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34E-EE51-4039-A2E5-639D54F6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646-66B7-4F5F-9385-BC231336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EB4-64F8-40E0-83B2-24E41E8C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EFB-45AA-4469-B344-C949AA05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12D-3783-4C95-AC01-CF75A201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918-0E40-4992-A595-281CB4A7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7FE-3689-4B80-99DC-59C957E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9B7-2F24-4B99-9D79-0BAC317C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FD8-7E38-4EC9-8417-BC677CFF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294-35D8-41B7-8859-09A28CB9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AF8-984A-43C9-B6F0-E6AA918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D66-A04E-47CD-A999-6BEFB62A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859A-9B41-4B8D-B683-EBD6880A1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ing Powerpoint to Wikispac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2:32:43Z</dcterms:created>
  <dc:creator>Oswego School District</dc:creator>
  <dc:description/>
  <dc:language>en-US</dc:language>
  <cp:lastModifiedBy>Oswego School District</cp:lastModifiedBy>
  <dcterms:modified xsi:type="dcterms:W3CDTF">2009-02-17T22:33:00Z</dcterms:modified>
  <cp:revision>1</cp:revision>
  <dc:subject/>
  <dc:title>Linking Powerpoint to Wikispaces!</dc:title>
</cp:coreProperties>
</file>